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1CD5-1499-45F5-BA81-CDC9836C9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F0A2-676D-442E-9F93-88DA1E8F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338C-360D-461E-8C8E-21BA7C8BA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DE4B-5553-4E06-84B2-A1E8CD5FA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BD01-9CED-4F39-80FE-B133F126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BF80-11F3-4EDC-9234-11516887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462F-30E3-4D79-ACAC-5D6276CC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7CCE-2398-4CEB-B120-6CDC9345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73BE-C6B2-48E5-AC53-C2F6DC48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845B-CC69-4884-AB78-92AB36A1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4A02-AFA2-4941-8C5B-F5119344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B735-8BF6-4427-BDDF-A6921168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7D18-83A4-42C1-B9F2-DD239F57C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5.xml"/><Relationship Id="rId3" Type="http://schemas.openxmlformats.org/officeDocument/2006/relationships/slide" Target=""/><Relationship Id="rId4" Type="http://schemas.openxmlformats.org/officeDocument/2006/relationships/slide" Target="slide8.xml"/><Relationship Id="rId5" Type="http://schemas.openxmlformats.org/officeDocument/2006/relationships/slide" Target=""/><Relationship Id="rId6" Type="http://schemas.openxmlformats.org/officeDocument/2006/relationships/slide" Target="slide10.xml"/><Relationship Id="rId7" Type="http://schemas.openxmlformats.org/officeDocument/2006/relationships/slide" Target=""/><Relationship Id="rId8" Type="http://schemas.openxmlformats.org/officeDocument/2006/relationships/slide" Target="slide15.xml"/><Relationship Id="rId9" Type="http://schemas.openxmlformats.org/officeDocument/2006/relationships/slide" Target=""/><Relationship Id="rId10" Type="http://schemas.openxmlformats.org/officeDocument/2006/relationships/slide" Target="slide16.xml"/><Relationship Id="rId11" Type="http://schemas.openxmlformats.org/officeDocument/2006/relationships/slide" Target=""/><Relationship Id="rId12" Type="http://schemas.openxmlformats.org/officeDocument/2006/relationships/slide" Target="slide14.xml"/><Relationship Id="rId13" Type="http://schemas.openxmlformats.org/officeDocument/2006/relationships/slide" Target=""/><Relationship Id="rId14" Type="http://schemas.openxmlformats.org/officeDocument/2006/relationships/slide" Target="slide18.xml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slide11.xml"/><Relationship Id="rId18" Type="http://schemas.openxmlformats.org/officeDocument/2006/relationships/slide" Target=""/><Relationship Id="rId19" Type="http://schemas.openxmlformats.org/officeDocument/2006/relationships/slide" Target="slide12.xml"/><Relationship Id="rId20" Type="http://schemas.openxmlformats.org/officeDocument/2006/relationships/slide" Target=""/><Relationship Id="rId21" Type="http://schemas.openxmlformats.org/officeDocument/2006/relationships/slide" Target="slide13.xml"/><Relationship Id="rId22" Type="http://schemas.openxmlformats.org/officeDocument/2006/relationships/slide" Target=""/><Relationship Id="rId23" Type="http://schemas.openxmlformats.org/officeDocument/2006/relationships/slide" Target="slide9.xml"/><Relationship Id="rId24" Type="http://schemas.openxmlformats.org/officeDocument/2006/relationships/slide" Target=""/><Relationship Id="rId25" Type="http://schemas.openxmlformats.org/officeDocument/2006/relationships/slide" Target="slide17.xml"/><Relationship Id="rId26" Type="http://schemas.openxmlformats.org/officeDocument/2006/relationships/slide" Target=""/><Relationship Id="rId27" Type="http://schemas.openxmlformats.org/officeDocument/2006/relationships/slide" Target="slide7.xml"/><Relationship Id="rId28" Type="http://schemas.openxmlformats.org/officeDocument/2006/relationships/slide" Target=""/><Relationship Id="rId29" Type="http://schemas.openxmlformats.org/officeDocument/2006/relationships/slide" Target="slide6.xml"/><Relationship Id="rId30" Type="http://schemas.openxmlformats.org/officeDocument/2006/relationships/slide" Target=""/><Relationship Id="rId31" Type="http://schemas.openxmlformats.org/officeDocument/2006/relationships/slide" Target="slide19.xml"/><Relationship Id="rId32" Type="http://schemas.openxmlformats.org/officeDocument/2006/relationships/slide" Target=""/><Relationship Id="rId33" Type="http://schemas.openxmlformats.org/officeDocument/2006/relationships/slide" Target="slide20.xml"/><Relationship Id="rId34" Type="http://schemas.openxmlformats.org/officeDocument/2006/relationships/slide" Target=""/><Relationship Id="rId35" Type="http://schemas.openxmlformats.org/officeDocument/2006/relationships/slide" Target="slide21.xml"/><Relationship Id="rId36" Type="http://schemas.openxmlformats.org/officeDocument/2006/relationships/slide" Target=""/><Relationship Id="rId37" Type="http://schemas.openxmlformats.org/officeDocument/2006/relationships/slide" Target="slide22.xml"/><Relationship Id="rId38" Type="http://schemas.openxmlformats.org/officeDocument/2006/relationships/slide" Target="slide3.xml"/><Relationship Id="rId39" Type="http://schemas.openxmlformats.org/officeDocument/2006/relationships/slide" Target=""/><Relationship Id="rId40" Type="http://schemas.openxmlformats.org/officeDocument/2006/relationships/slide" Target="slide4.xml"/><Relationship Id="rId4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1901880" y="1901880"/>
            <a:ext cx="5340240" cy="1590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jeopardy-pic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2438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e6e6"/>
                </a:solidFill>
                <a:latin typeface="Times New Roman"/>
              </a:rPr>
              <a:t>Presented b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e6e6e6"/>
                </a:solidFill>
                <a:latin typeface="Times New Roman"/>
              </a:rPr>
              <a:t>Mrs. Gold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Jeopardy - Full Version 1985.mp3" descr=""/>
          <p:cNvPicPr/>
          <p:nvPr/>
        </p:nvPicPr>
        <p:blipFill>
          <a:blip r:embed="rId3"/>
          <a:stretch/>
        </p:blipFill>
        <p:spPr>
          <a:xfrm>
            <a:off x="8839080" y="0"/>
            <a:ext cx="282600" cy="2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489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4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49995"/>
              <a:gd name="adj2" fmla="val 2338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is the reason the sou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ought that the Briti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ould come to their a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uring the Civil War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belief that Britain relied on their cott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49796"/>
              <a:gd name="adj2" fmla="val 2374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was the first assembly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ed representatives of Engl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nies in North Americ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Virginia House of Burgess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914400" y="990720"/>
            <a:ext cx="7162920" cy="4038480"/>
          </a:xfrm>
          <a:prstGeom prst="wedgeRectCallout">
            <a:avLst>
              <a:gd name="adj1" fmla="val -49995"/>
              <a:gd name="adj2" fmla="val 244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was the biggest econom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ursuit in New Fran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fur trapp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49995"/>
              <a:gd name="adj2" fmla="val 247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was the most importa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 of Shays’ Rebellion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990720" y="228600"/>
            <a:ext cx="716256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realization of the need for a stronger central government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50189"/>
              <a:gd name="adj2" fmla="val 2408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caused southern troop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 fire on Ft. Sumter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Lincoln sending supplies to the for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50189"/>
              <a:gd name="adj2" fmla="val 22689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st one difference betwe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frican American slaves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dentured servant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90720" y="152280"/>
            <a:ext cx="708660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indentured servants eventually got freedom, had more rights, slaves were more managea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49995"/>
              <a:gd name="adj2" fmla="val 2688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is the primary rea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at the British passed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mp Act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o raise money for military defen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49995"/>
              <a:gd name="adj2" fmla="val 2968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was Thomas Jefferson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lan to deal with British &amp;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rench violations of America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eutrality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Embargo A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49995"/>
              <a:gd name="adj2" fmla="val 2828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legally abolished slavery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United State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mend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49796"/>
              <a:gd name="adj2" fmla="val 2234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st at least 2 motives for Engli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ttlement in the new world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990720" y="228600"/>
            <a:ext cx="708660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unemployment, religious freedom, adventure, resourc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5">
            <a:hlinkClick r:id="rId1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8">
            <a:hlinkClick r:id="rId3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10">
            <a:hlinkClick r:id="rId5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12">
            <a:hlinkClick r:id="rId7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4">
            <a:hlinkClick r:id="rId9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6">
            <a:hlinkClick r:id="rId11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1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8">
            <a:hlinkClick r:id="rId13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3"/>
          <p:cNvSpPr/>
          <p:nvPr/>
        </p:nvSpPr>
        <p:spPr>
          <a:xfrm>
            <a:off x="228600" y="0"/>
            <a:ext cx="1905120" cy="368280"/>
          </a:xfrm>
          <a:prstGeom prst="rect">
            <a:avLst/>
          </a:prstGeom>
          <a:solidFill>
            <a:srgbClr val="ffff5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pter 1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4"/>
          <p:cNvSpPr/>
          <p:nvPr/>
        </p:nvSpPr>
        <p:spPr>
          <a:xfrm>
            <a:off x="2362320" y="36360"/>
            <a:ext cx="1828800" cy="398880"/>
          </a:xfrm>
          <a:prstGeom prst="rect">
            <a:avLst/>
          </a:prstGeom>
          <a:solidFill>
            <a:srgbClr val="ffff5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5-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27">
            <a:hlinkClick r:id="rId15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28">
            <a:hlinkClick r:id="rId16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1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30">
            <a:hlinkClick r:id="rId18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31">
            <a:hlinkClick r:id="rId20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32">
            <a:hlinkClick r:id="rId22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3">
            <a:hlinkClick r:id="rId24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35">
            <a:hlinkClick r:id="rId26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36">
            <a:hlinkClick r:id="rId28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37">
            <a:hlinkClick r:id="rId30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38">
            <a:hlinkClick r:id="rId32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9">
            <a:hlinkClick r:id="rId34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40">
            <a:hlinkClick r:id="rId36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4792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6"/>
          <p:cNvSpPr/>
          <p:nvPr/>
        </p:nvSpPr>
        <p:spPr>
          <a:xfrm>
            <a:off x="609480" y="13716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38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4"/>
          <p:cNvSpPr/>
          <p:nvPr/>
        </p:nvSpPr>
        <p:spPr>
          <a:xfrm>
            <a:off x="4648320" y="36360"/>
            <a:ext cx="2057400" cy="398880"/>
          </a:xfrm>
          <a:prstGeom prst="rect">
            <a:avLst/>
          </a:prstGeom>
          <a:solidFill>
            <a:srgbClr val="ffff5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9-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4"/>
          <p:cNvSpPr/>
          <p:nvPr/>
        </p:nvSpPr>
        <p:spPr>
          <a:xfrm>
            <a:off x="6858000" y="36360"/>
            <a:ext cx="2057400" cy="398880"/>
          </a:xfrm>
          <a:prstGeom prst="rect">
            <a:avLst/>
          </a:prstGeom>
          <a:solidFill>
            <a:srgbClr val="ffff5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16-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8">
            <a:hlinkClick r:id="rId39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50189"/>
              <a:gd name="adj2" fmla="val 21995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scribe Triangular trad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who &amp; what goods involved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1066680" y="30492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raw materials from Americas to Europe, rum &amp; manufactured goods to Africa, slaves to Americas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49995"/>
              <a:gd name="adj2" fmla="val 2094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st two major aspects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exander Hamilton’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nancial pla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1066680" y="228600"/>
            <a:ext cx="708660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aking on state debts, large national debt, national bank, protective tarif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49995"/>
              <a:gd name="adj2" fmla="val 20944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scribe the Republican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r Reconstruction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1066680" y="30492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harsh for south, conquered territory, at mercy of congre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990720" y="914400"/>
            <a:ext cx="7543800" cy="4038480"/>
          </a:xfrm>
          <a:prstGeom prst="wedgeRectCallout">
            <a:avLst>
              <a:gd name="adj1" fmla="val -18671"/>
              <a:gd name="adj2" fmla="val 4994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ople who came to the “new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orld” to explore, settle, and explo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Native American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re conquistad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49995"/>
              <a:gd name="adj2" fmla="val 20245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was a wave of increas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ligious fervor in the 1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entury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Great Awake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49796"/>
              <a:gd name="adj2" fmla="val 2234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prohibited slavery north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36’30 parallel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Missouri Compromi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49796"/>
              <a:gd name="adj2" fmla="val 2059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prohibited slavery in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eas gained from th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xican Cession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Wilmot Provis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4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49995"/>
              <a:gd name="adj2" fmla="val 23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was a joint-stock compa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artered by England to finan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 establish new colonies in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w world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71600" y="137160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Virginia Compan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4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49995"/>
              <a:gd name="adj2" fmla="val 2548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st one British advantage 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Revolutionary Wa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990720" y="228600"/>
            <a:ext cx="716256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well-trained generals, naval power, national wealth, established count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4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49995"/>
              <a:gd name="adj2" fmla="val 1989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was the cause of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ullification crisi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tarif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6T22:42:49Z</dcterms:created>
  <dc:creator>Jerry Myers</dc:creator>
  <dc:description>Created by Jerry Myers is 1998 for a class.</dc:description>
  <dc:language>en-US</dc:language>
  <cp:lastModifiedBy>emily.johnson</cp:lastModifiedBy>
  <cp:lastPrinted>2001-01-31T16:21:13Z</cp:lastPrinted>
  <dcterms:modified xsi:type="dcterms:W3CDTF">2012-12-17T12:47:07Z</dcterms:modified>
  <cp:revision>102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